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392-D986-43E6-8840-556075F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285-CD5E-490B-8DD8-E867935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531-FF69-4FD3-87AE-D6772862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9B8-CADC-4C90-98EC-92B36234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A67-63DA-40A3-810C-519DC3C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108-5A8F-43F2-9218-BEC49826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510-30FD-47E0-92E6-1F195C72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46B-0EC3-44B7-B5BC-4D5F0EE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CC4-1ECF-4CF7-8415-2AE135E8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7D1-EE5B-4762-BCCA-19FDC87D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0EF-7497-4B67-B790-8DBAABC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BD4-9817-4564-BA0C-AAF5F313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0F92-C76C-4289-AD68-3C15A2F33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rcRect l="8854" t="32411" r="50991" b="58267"/>
          <a:stretch/>
        </p:blipFill>
        <p:spPr>
          <a:xfrm>
            <a:off x="1476360" y="476280"/>
            <a:ext cx="6408720" cy="1155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3"/>
          <a:srcRect l="6498" t="45641" r="46355" b="36855"/>
          <a:stretch/>
        </p:blipFill>
        <p:spPr>
          <a:xfrm>
            <a:off x="1835280" y="1773360"/>
            <a:ext cx="6481800" cy="177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4"/>
          <a:srcRect l="10038" t="38756" r="49795" b="51257"/>
          <a:stretch/>
        </p:blipFill>
        <p:spPr>
          <a:xfrm>
            <a:off x="1908000" y="4365720"/>
            <a:ext cx="633744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 rot="5400000">
            <a:off x="-2123640" y="314100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rcRect l="6498" t="45641" r="46355" b="36855"/>
          <a:stretch/>
        </p:blipFill>
        <p:spPr>
          <a:xfrm>
            <a:off x="1619280" y="0"/>
            <a:ext cx="6481800" cy="177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rcRect l="1771" t="25856" r="43412" b="39923"/>
          <a:stretch/>
        </p:blipFill>
        <p:spPr>
          <a:xfrm>
            <a:off x="179280" y="1549440"/>
            <a:ext cx="878544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rcRect l="1771" t="27096" r="52163" b="47820"/>
          <a:stretch/>
        </p:blipFill>
        <p:spPr>
          <a:xfrm>
            <a:off x="900000" y="2133720"/>
            <a:ext cx="7488360" cy="3166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rcRect l="8854" t="32411" r="50991" b="58267"/>
          <a:stretch/>
        </p:blipFill>
        <p:spPr>
          <a:xfrm>
            <a:off x="468360" y="333360"/>
            <a:ext cx="64087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rcRect l="9454" t="32715" r="49795" b="10246"/>
          <a:stretch/>
        </p:blipFill>
        <p:spPr>
          <a:xfrm>
            <a:off x="1519200" y="0"/>
            <a:ext cx="63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2"/>
          <a:srcRect l="10038" t="32411" r="50391" b="10546"/>
          <a:stretch/>
        </p:blipFill>
        <p:spPr>
          <a:xfrm>
            <a:off x="1763640" y="0"/>
            <a:ext cx="612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rcRect l="10038" t="33468" r="50391" b="11018"/>
          <a:stretch/>
        </p:blipFill>
        <p:spPr>
          <a:xfrm>
            <a:off x="1547640" y="115920"/>
            <a:ext cx="61884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rcRect l="10038" t="33468" r="49795" b="10546"/>
          <a:stretch/>
        </p:blipFill>
        <p:spPr>
          <a:xfrm>
            <a:off x="1336680" y="0"/>
            <a:ext cx="63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19:51Z</dcterms:created>
  <dc:creator>XP GAME 2007</dc:creator>
  <dc:description/>
  <dc:language>en-US</dc:language>
  <cp:lastModifiedBy>XP GAME 2007</cp:lastModifiedBy>
  <dcterms:modified xsi:type="dcterms:W3CDTF">2009-01-29T20:38:26Z</dcterms:modified>
  <cp:revision>4</cp:revision>
  <dc:subject/>
  <dc:title>Слайд 1</dc:title>
</cp:coreProperties>
</file>